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rtoon4.wav" ContentType="audio/x-wav"/>
  <Override PartName="/ppt/media/applause.wav" ContentType="audio/x-wav"/>
  <Override PartName="/ppt/media/hilari2.wav" ContentType="audio/x-wav"/>
  <Override PartName="/ppt/media/cowbell.wav" ContentType="audio/x-wav"/>
  <Override PartName="/ppt/media/RENSCREM.wav" ContentType="audio/x-wav"/>
  <Override PartName="/ppt/media/kiss2.wav" ContentType="audio/x-wav"/>
  <Override PartName="/ppt/media/cartoon3.wav" ContentType="audio/x-wav"/>
  <Override PartName="/ppt/media/cartoon2.wav" ContentType="audio/x-wav"/>
  <Override PartName="/ppt/media/cartoon1.wav" ContentType="audio/x-wav"/>
  <Override PartName="/ppt/media/door1.wav" ContentType="audio/x-wav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9DEA8-06AC-4796-990F-379398D6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69310-E061-4AC1-928D-B3B5EBA8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37C42-4F40-4F49-A02A-2C0C3143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03972-0208-492A-B4D7-CEEC4FF6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D2A7-B060-4E95-A7BD-87FACAF9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3EAE-4501-41E5-AAF8-BCE203F2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6E5E-157C-4D1E-B8B4-1B1D657D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47C5-8301-4B61-BC8D-784EFC02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D4CE-3A67-4B5E-851B-339A5F6C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A322-0017-4549-89AD-B1EA8C15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4FFE-B2C5-40E5-B70D-236222C6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CDC11-54B2-406E-92CE-F7F490CD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6495-262A-4903-B511-4C1CF26F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EECA-DF20-4849-B535-82D0B7FF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AA72-5B63-4550-9B0D-80C58636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1ECA-6F74-47BC-8AF3-5BFFF52F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A30A-011A-4F01-8803-4196DF90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AE97B-13C9-4547-9417-935CABD9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D2F4E-5D36-492C-9DA7-8E94ACFB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4045A-DC99-4C88-85E6-86CE7395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76F4D-7B9C-4CA7-9592-36350F80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B9ED0-36D7-46A1-8782-60BAE78E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1C2DE-7AB9-40A1-8E0F-6260A9BC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84082-A584-4D5B-B7A8-9265306A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C784-42D7-49B1-BB1B-19B7C264FC1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2037-1A32-4528-B45D-A3F00086E3F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1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oor1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ENSCREM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wbe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iss2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ilari2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3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4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2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uess the Covered Wor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anne Whit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oor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NSCRE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457200"/>
            <a:ext cx="80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t’s review our words.  Watch carefully because they will flash on the screen for just a moment. We will clap as we spell the word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228600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Type 1</a:t>
            </a:r>
            <a:r>
              <a:rPr b="1" lang="en-US" sz="96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228600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68580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9480" y="190512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762120"/>
            <a:ext cx="769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006666"/>
                </a:solidFill>
                <a:latin typeface="Arial"/>
              </a:rPr>
              <a:t>GREAT JOB!</a:t>
            </a:r>
            <a:endParaRPr b="0" lang="en-US" sz="10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9880" y="3352680"/>
            <a:ext cx="1667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Arial"/>
              </a:rPr>
              <a:t>Say It!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82880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8195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8098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7242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56386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is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lari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1:29:26Z</dcterms:created>
  <dc:creator>Piedmont Elementary</dc:creator>
  <dc:description/>
  <dc:language>en-US</dc:language>
  <cp:lastModifiedBy>Connie Campbell</cp:lastModifiedBy>
  <dcterms:modified xsi:type="dcterms:W3CDTF">2002-05-31T21:57:07Z</dcterms:modified>
  <cp:revision>4</cp:revision>
  <dc:subject/>
  <dc:title>Guess the Covered Word</dc:title>
</cp:coreProperties>
</file>